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2200" y="413640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504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0112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8004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220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0112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8004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60360" y="491760"/>
            <a:ext cx="847584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504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360"/>
            <a:ext cx="227160" cy="6270480"/>
          </a:xfrm>
          <a:prstGeom prst="rect">
            <a:avLst/>
          </a:pr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08520" y="6565680"/>
            <a:ext cx="150660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006e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6e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4680"/>
            <a:ext cx="7188480" cy="260280"/>
          </a:xfrm>
          <a:prstGeom prst="rect">
            <a:avLst/>
          </a:pr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1440" y="6480"/>
            <a:ext cx="549000" cy="601560"/>
          </a:xfrm>
          <a:custGeom>
            <a:avLst/>
            <a:gdLst/>
            <a:ahLst/>
            <a:rect l="l" t="t" r="r" b="b"/>
            <a:pathLst>
              <a:path w="1766" h="1820">
                <a:moveTo>
                  <a:pt x="5" y="1820"/>
                </a:moveTo>
                <a:cubicBezTo>
                  <a:pt x="4" y="1412"/>
                  <a:pt x="0" y="1167"/>
                  <a:pt x="0" y="0"/>
                </a:cubicBezTo>
                <a:cubicBezTo>
                  <a:pt x="724" y="0"/>
                  <a:pt x="749" y="0"/>
                  <a:pt x="1766" y="0"/>
                </a:cubicBezTo>
                <a:cubicBezTo>
                  <a:pt x="1766" y="596"/>
                  <a:pt x="1766" y="476"/>
                  <a:pt x="1766" y="782"/>
                </a:cubicBezTo>
                <a:cubicBezTo>
                  <a:pt x="1421" y="773"/>
                  <a:pt x="1139" y="966"/>
                  <a:pt x="985" y="1154"/>
                </a:cubicBezTo>
                <a:cubicBezTo>
                  <a:pt x="838" y="1337"/>
                  <a:pt x="733" y="1562"/>
                  <a:pt x="735" y="1820"/>
                </a:cubicBezTo>
                <a:cubicBezTo>
                  <a:pt x="364" y="1817"/>
                  <a:pt x="157" y="1820"/>
                  <a:pt x="5" y="1820"/>
                </a:cubicBezTo>
                <a:close/>
              </a:path>
            </a:pathLst>
          </a:cu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962440" y="25560"/>
            <a:ext cx="47448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360" bIns="936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ffffff"/>
                </a:solidFill>
                <a:latin typeface="Arial Narrow"/>
              </a:rPr>
              <a:t>Kansanterveyslaitos </a:t>
            </a:r>
            <a:r>
              <a:rPr b="0" lang="fi-FI" sz="1500" spc="-1" strike="noStrike">
                <a:solidFill>
                  <a:srgbClr val="ffffff"/>
                </a:solidFill>
                <a:latin typeface="Arial Narrow"/>
                <a:ea typeface="Arial"/>
              </a:rPr>
              <a:t>• </a:t>
            </a:r>
            <a:r>
              <a:rPr b="0" lang="sv-FI" sz="1500" spc="-1" strike="noStrike">
                <a:solidFill>
                  <a:srgbClr val="ffffff"/>
                </a:solidFill>
                <a:latin typeface="Arial Narrow"/>
                <a:ea typeface="Arial"/>
              </a:rPr>
              <a:t>Folkhälsoinstitut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862760" y="14400"/>
            <a:ext cx="701280" cy="239760"/>
            <a:chOff x="7862760" y="14400"/>
            <a:chExt cx="701280" cy="239760"/>
          </a:xfrm>
        </p:grpSpPr>
        <p:sp>
          <p:nvSpPr>
            <p:cNvPr id="8" name=""/>
            <p:cNvSpPr/>
            <p:nvPr/>
          </p:nvSpPr>
          <p:spPr>
            <a:xfrm>
              <a:off x="7862760" y="14400"/>
              <a:ext cx="172440" cy="239400"/>
            </a:xfrm>
            <a:custGeom>
              <a:avLst/>
              <a:gdLst/>
              <a:ahLst/>
              <a:rect l="l" t="t" r="r" b="b"/>
              <a:pathLst>
                <a:path w="1109" h="1447">
                  <a:moveTo>
                    <a:pt x="1109" y="162"/>
                  </a:moveTo>
                  <a:lnTo>
                    <a:pt x="1108" y="134"/>
                  </a:lnTo>
                  <a:lnTo>
                    <a:pt x="1102" y="107"/>
                  </a:lnTo>
                  <a:lnTo>
                    <a:pt x="1092" y="81"/>
                  </a:lnTo>
                  <a:lnTo>
                    <a:pt x="1077" y="58"/>
                  </a:lnTo>
                  <a:lnTo>
                    <a:pt x="1057" y="38"/>
                  </a:lnTo>
                  <a:lnTo>
                    <a:pt x="1036" y="22"/>
                  </a:lnTo>
                  <a:lnTo>
                    <a:pt x="1010" y="10"/>
                  </a:lnTo>
                  <a:lnTo>
                    <a:pt x="984" y="3"/>
                  </a:lnTo>
                  <a:lnTo>
                    <a:pt x="956" y="0"/>
                  </a:lnTo>
                  <a:lnTo>
                    <a:pt x="151" y="0"/>
                  </a:lnTo>
                  <a:lnTo>
                    <a:pt x="121" y="4"/>
                  </a:lnTo>
                  <a:lnTo>
                    <a:pt x="94" y="16"/>
                  </a:lnTo>
                  <a:lnTo>
                    <a:pt x="66" y="30"/>
                  </a:lnTo>
                  <a:lnTo>
                    <a:pt x="45" y="50"/>
                  </a:lnTo>
                  <a:lnTo>
                    <a:pt x="26" y="75"/>
                  </a:lnTo>
                  <a:lnTo>
                    <a:pt x="12" y="102"/>
                  </a:lnTo>
                  <a:lnTo>
                    <a:pt x="3" y="131"/>
                  </a:lnTo>
                  <a:lnTo>
                    <a:pt x="0" y="162"/>
                  </a:lnTo>
                  <a:lnTo>
                    <a:pt x="3" y="192"/>
                  </a:lnTo>
                  <a:lnTo>
                    <a:pt x="12" y="221"/>
                  </a:lnTo>
                  <a:lnTo>
                    <a:pt x="26" y="248"/>
                  </a:lnTo>
                  <a:lnTo>
                    <a:pt x="45" y="273"/>
                  </a:lnTo>
                  <a:lnTo>
                    <a:pt x="66" y="293"/>
                  </a:lnTo>
                  <a:lnTo>
                    <a:pt x="94" y="307"/>
                  </a:lnTo>
                  <a:lnTo>
                    <a:pt x="121" y="317"/>
                  </a:lnTo>
                  <a:lnTo>
                    <a:pt x="151" y="323"/>
                  </a:lnTo>
                  <a:lnTo>
                    <a:pt x="795" y="323"/>
                  </a:lnTo>
                  <a:lnTo>
                    <a:pt x="795" y="1290"/>
                  </a:lnTo>
                  <a:lnTo>
                    <a:pt x="798" y="1319"/>
                  </a:lnTo>
                  <a:lnTo>
                    <a:pt x="805" y="1346"/>
                  </a:lnTo>
                  <a:lnTo>
                    <a:pt x="818" y="1374"/>
                  </a:lnTo>
                  <a:lnTo>
                    <a:pt x="835" y="1397"/>
                  </a:lnTo>
                  <a:lnTo>
                    <a:pt x="857" y="1415"/>
                  </a:lnTo>
                  <a:lnTo>
                    <a:pt x="881" y="1431"/>
                  </a:lnTo>
                  <a:lnTo>
                    <a:pt x="909" y="1441"/>
                  </a:lnTo>
                  <a:lnTo>
                    <a:pt x="937" y="1447"/>
                  </a:lnTo>
                  <a:lnTo>
                    <a:pt x="966" y="1447"/>
                  </a:lnTo>
                  <a:lnTo>
                    <a:pt x="995" y="1441"/>
                  </a:lnTo>
                  <a:lnTo>
                    <a:pt x="1023" y="1431"/>
                  </a:lnTo>
                  <a:lnTo>
                    <a:pt x="1047" y="1415"/>
                  </a:lnTo>
                  <a:lnTo>
                    <a:pt x="1069" y="1397"/>
                  </a:lnTo>
                  <a:lnTo>
                    <a:pt x="1086" y="1374"/>
                  </a:lnTo>
                  <a:lnTo>
                    <a:pt x="1099" y="1346"/>
                  </a:lnTo>
                  <a:lnTo>
                    <a:pt x="1106" y="1319"/>
                  </a:lnTo>
                  <a:lnTo>
                    <a:pt x="1109" y="1290"/>
                  </a:lnTo>
                  <a:lnTo>
                    <a:pt x="1109" y="162"/>
                  </a:lnTo>
                  <a:close/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36280" y="14400"/>
              <a:ext cx="527760" cy="239760"/>
            </a:xfrm>
            <a:custGeom>
              <a:avLst/>
              <a:gdLst/>
              <a:ahLst/>
              <a:rect l="l" t="t" r="r" b="b"/>
              <a:pathLst>
                <a:path w="3393" h="1450">
                  <a:moveTo>
                    <a:pt x="2444" y="0"/>
                  </a:moveTo>
                  <a:lnTo>
                    <a:pt x="2472" y="1"/>
                  </a:lnTo>
                  <a:lnTo>
                    <a:pt x="2500" y="7"/>
                  </a:lnTo>
                  <a:lnTo>
                    <a:pt x="2526" y="19"/>
                  </a:lnTo>
                  <a:lnTo>
                    <a:pt x="2549" y="36"/>
                  </a:lnTo>
                  <a:lnTo>
                    <a:pt x="2569" y="56"/>
                  </a:lnTo>
                  <a:lnTo>
                    <a:pt x="2585" y="79"/>
                  </a:lnTo>
                  <a:lnTo>
                    <a:pt x="2596" y="105"/>
                  </a:lnTo>
                  <a:lnTo>
                    <a:pt x="2604" y="133"/>
                  </a:lnTo>
                  <a:lnTo>
                    <a:pt x="2604" y="162"/>
                  </a:lnTo>
                  <a:lnTo>
                    <a:pt x="2604" y="1128"/>
                  </a:lnTo>
                  <a:lnTo>
                    <a:pt x="3247" y="1128"/>
                  </a:lnTo>
                  <a:lnTo>
                    <a:pt x="3276" y="1134"/>
                  </a:lnTo>
                  <a:lnTo>
                    <a:pt x="3303" y="1144"/>
                  </a:lnTo>
                  <a:lnTo>
                    <a:pt x="3329" y="1159"/>
                  </a:lnTo>
                  <a:lnTo>
                    <a:pt x="3351" y="1179"/>
                  </a:lnTo>
                  <a:lnTo>
                    <a:pt x="3368" y="1202"/>
                  </a:lnTo>
                  <a:lnTo>
                    <a:pt x="3382" y="1228"/>
                  </a:lnTo>
                  <a:lnTo>
                    <a:pt x="3390" y="1257"/>
                  </a:lnTo>
                  <a:lnTo>
                    <a:pt x="3393" y="1286"/>
                  </a:lnTo>
                  <a:lnTo>
                    <a:pt x="3390" y="1314"/>
                  </a:lnTo>
                  <a:lnTo>
                    <a:pt x="3382" y="1343"/>
                  </a:lnTo>
                  <a:lnTo>
                    <a:pt x="3368" y="1369"/>
                  </a:lnTo>
                  <a:lnTo>
                    <a:pt x="3351" y="1392"/>
                  </a:lnTo>
                  <a:lnTo>
                    <a:pt x="3329" y="1412"/>
                  </a:lnTo>
                  <a:lnTo>
                    <a:pt x="3303" y="1428"/>
                  </a:lnTo>
                  <a:lnTo>
                    <a:pt x="3276" y="1438"/>
                  </a:lnTo>
                  <a:lnTo>
                    <a:pt x="3247" y="1443"/>
                  </a:lnTo>
                  <a:lnTo>
                    <a:pt x="2428" y="1443"/>
                  </a:lnTo>
                  <a:lnTo>
                    <a:pt x="2402" y="1441"/>
                  </a:lnTo>
                  <a:lnTo>
                    <a:pt x="2376" y="1434"/>
                  </a:lnTo>
                  <a:lnTo>
                    <a:pt x="2353" y="1423"/>
                  </a:lnTo>
                  <a:lnTo>
                    <a:pt x="2331" y="1407"/>
                  </a:lnTo>
                  <a:lnTo>
                    <a:pt x="2314" y="1388"/>
                  </a:lnTo>
                  <a:lnTo>
                    <a:pt x="2299" y="1366"/>
                  </a:lnTo>
                  <a:lnTo>
                    <a:pt x="2289" y="1342"/>
                  </a:lnTo>
                  <a:lnTo>
                    <a:pt x="2283" y="1316"/>
                  </a:lnTo>
                  <a:lnTo>
                    <a:pt x="2282" y="1290"/>
                  </a:lnTo>
                  <a:lnTo>
                    <a:pt x="2282" y="323"/>
                  </a:lnTo>
                  <a:lnTo>
                    <a:pt x="1678" y="323"/>
                  </a:lnTo>
                  <a:lnTo>
                    <a:pt x="1678" y="1288"/>
                  </a:lnTo>
                  <a:lnTo>
                    <a:pt x="1675" y="1317"/>
                  </a:lnTo>
                  <a:lnTo>
                    <a:pt x="1666" y="1346"/>
                  </a:lnTo>
                  <a:lnTo>
                    <a:pt x="1653" y="1372"/>
                  </a:lnTo>
                  <a:lnTo>
                    <a:pt x="1636" y="1395"/>
                  </a:lnTo>
                  <a:lnTo>
                    <a:pt x="1614" y="1415"/>
                  </a:lnTo>
                  <a:lnTo>
                    <a:pt x="1588" y="1430"/>
                  </a:lnTo>
                  <a:lnTo>
                    <a:pt x="1561" y="1441"/>
                  </a:lnTo>
                  <a:lnTo>
                    <a:pt x="1532" y="1447"/>
                  </a:lnTo>
                  <a:lnTo>
                    <a:pt x="1503" y="1447"/>
                  </a:lnTo>
                  <a:lnTo>
                    <a:pt x="1474" y="1441"/>
                  </a:lnTo>
                  <a:lnTo>
                    <a:pt x="1447" y="1431"/>
                  </a:lnTo>
                  <a:lnTo>
                    <a:pt x="1421" y="1415"/>
                  </a:lnTo>
                  <a:lnTo>
                    <a:pt x="1399" y="1397"/>
                  </a:lnTo>
                  <a:lnTo>
                    <a:pt x="1381" y="1374"/>
                  </a:lnTo>
                  <a:lnTo>
                    <a:pt x="1368" y="1348"/>
                  </a:lnTo>
                  <a:lnTo>
                    <a:pt x="1359" y="1319"/>
                  </a:lnTo>
                  <a:lnTo>
                    <a:pt x="1356" y="1290"/>
                  </a:lnTo>
                  <a:lnTo>
                    <a:pt x="1356" y="323"/>
                  </a:lnTo>
                  <a:lnTo>
                    <a:pt x="835" y="323"/>
                  </a:lnTo>
                  <a:lnTo>
                    <a:pt x="445" y="707"/>
                  </a:lnTo>
                  <a:lnTo>
                    <a:pt x="919" y="1174"/>
                  </a:lnTo>
                  <a:lnTo>
                    <a:pt x="938" y="1196"/>
                  </a:lnTo>
                  <a:lnTo>
                    <a:pt x="954" y="1222"/>
                  </a:lnTo>
                  <a:lnTo>
                    <a:pt x="964" y="1248"/>
                  </a:lnTo>
                  <a:lnTo>
                    <a:pt x="968" y="1277"/>
                  </a:lnTo>
                  <a:lnTo>
                    <a:pt x="968" y="1306"/>
                  </a:lnTo>
                  <a:lnTo>
                    <a:pt x="962" y="1335"/>
                  </a:lnTo>
                  <a:lnTo>
                    <a:pt x="952" y="1362"/>
                  </a:lnTo>
                  <a:lnTo>
                    <a:pt x="936" y="1387"/>
                  </a:lnTo>
                  <a:lnTo>
                    <a:pt x="918" y="1408"/>
                  </a:lnTo>
                  <a:lnTo>
                    <a:pt x="895" y="1425"/>
                  </a:lnTo>
                  <a:lnTo>
                    <a:pt x="869" y="1438"/>
                  </a:lnTo>
                  <a:lnTo>
                    <a:pt x="841" y="1447"/>
                  </a:lnTo>
                  <a:lnTo>
                    <a:pt x="812" y="1450"/>
                  </a:lnTo>
                  <a:lnTo>
                    <a:pt x="783" y="1449"/>
                  </a:lnTo>
                  <a:lnTo>
                    <a:pt x="755" y="1441"/>
                  </a:lnTo>
                  <a:lnTo>
                    <a:pt x="729" y="1428"/>
                  </a:lnTo>
                  <a:lnTo>
                    <a:pt x="706" y="1412"/>
                  </a:lnTo>
                  <a:lnTo>
                    <a:pt x="0" y="707"/>
                  </a:lnTo>
                  <a:lnTo>
                    <a:pt x="674" y="32"/>
                  </a:lnTo>
                  <a:lnTo>
                    <a:pt x="693" y="17"/>
                  </a:lnTo>
                  <a:lnTo>
                    <a:pt x="714" y="7"/>
                  </a:lnTo>
                  <a:lnTo>
                    <a:pt x="736" y="1"/>
                  </a:lnTo>
                  <a:lnTo>
                    <a:pt x="759" y="0"/>
                  </a:lnTo>
                  <a:lnTo>
                    <a:pt x="2444" y="0"/>
                  </a:lnTo>
                  <a:close/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93720" y="95760"/>
              <a:ext cx="59040" cy="6264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190"/>
                  </a:moveTo>
                  <a:lnTo>
                    <a:pt x="1" y="159"/>
                  </a:lnTo>
                  <a:lnTo>
                    <a:pt x="10" y="128"/>
                  </a:lnTo>
                  <a:lnTo>
                    <a:pt x="22" y="100"/>
                  </a:lnTo>
                  <a:lnTo>
                    <a:pt x="39" y="74"/>
                  </a:lnTo>
                  <a:lnTo>
                    <a:pt x="61" y="50"/>
                  </a:lnTo>
                  <a:lnTo>
                    <a:pt x="85" y="30"/>
                  </a:lnTo>
                  <a:lnTo>
                    <a:pt x="114" y="16"/>
                  </a:lnTo>
                  <a:lnTo>
                    <a:pt x="143" y="6"/>
                  </a:lnTo>
                  <a:lnTo>
                    <a:pt x="175" y="0"/>
                  </a:lnTo>
                  <a:lnTo>
                    <a:pt x="206" y="0"/>
                  </a:lnTo>
                  <a:lnTo>
                    <a:pt x="237" y="6"/>
                  </a:lnTo>
                  <a:lnTo>
                    <a:pt x="267" y="16"/>
                  </a:lnTo>
                  <a:lnTo>
                    <a:pt x="294" y="30"/>
                  </a:lnTo>
                  <a:lnTo>
                    <a:pt x="319" y="50"/>
                  </a:lnTo>
                  <a:lnTo>
                    <a:pt x="340" y="74"/>
                  </a:lnTo>
                  <a:lnTo>
                    <a:pt x="358" y="100"/>
                  </a:lnTo>
                  <a:lnTo>
                    <a:pt x="371" y="128"/>
                  </a:lnTo>
                  <a:lnTo>
                    <a:pt x="378" y="159"/>
                  </a:lnTo>
                  <a:lnTo>
                    <a:pt x="381" y="190"/>
                  </a:lnTo>
                  <a:lnTo>
                    <a:pt x="378" y="222"/>
                  </a:lnTo>
                  <a:lnTo>
                    <a:pt x="371" y="252"/>
                  </a:lnTo>
                  <a:lnTo>
                    <a:pt x="358" y="281"/>
                  </a:lnTo>
                  <a:lnTo>
                    <a:pt x="340" y="307"/>
                  </a:lnTo>
                  <a:lnTo>
                    <a:pt x="319" y="330"/>
                  </a:lnTo>
                  <a:lnTo>
                    <a:pt x="294" y="351"/>
                  </a:lnTo>
                  <a:lnTo>
                    <a:pt x="267" y="365"/>
                  </a:lnTo>
                  <a:lnTo>
                    <a:pt x="237" y="375"/>
                  </a:lnTo>
                  <a:lnTo>
                    <a:pt x="206" y="381"/>
                  </a:lnTo>
                  <a:lnTo>
                    <a:pt x="175" y="381"/>
                  </a:lnTo>
                  <a:lnTo>
                    <a:pt x="143" y="375"/>
                  </a:lnTo>
                  <a:lnTo>
                    <a:pt x="114" y="365"/>
                  </a:lnTo>
                  <a:lnTo>
                    <a:pt x="85" y="351"/>
                  </a:lnTo>
                  <a:lnTo>
                    <a:pt x="61" y="330"/>
                  </a:lnTo>
                  <a:lnTo>
                    <a:pt x="39" y="307"/>
                  </a:lnTo>
                  <a:lnTo>
                    <a:pt x="22" y="281"/>
                  </a:lnTo>
                  <a:lnTo>
                    <a:pt x="10" y="252"/>
                  </a:lnTo>
                  <a:lnTo>
                    <a:pt x="1" y="22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893720" y="189720"/>
              <a:ext cx="59040" cy="630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191"/>
                  </a:moveTo>
                  <a:lnTo>
                    <a:pt x="1" y="159"/>
                  </a:lnTo>
                  <a:lnTo>
                    <a:pt x="10" y="129"/>
                  </a:lnTo>
                  <a:lnTo>
                    <a:pt x="22" y="100"/>
                  </a:lnTo>
                  <a:lnTo>
                    <a:pt x="39" y="74"/>
                  </a:lnTo>
                  <a:lnTo>
                    <a:pt x="61" y="51"/>
                  </a:lnTo>
                  <a:lnTo>
                    <a:pt x="85" y="32"/>
                  </a:lnTo>
                  <a:lnTo>
                    <a:pt x="114" y="16"/>
                  </a:lnTo>
                  <a:lnTo>
                    <a:pt x="143" y="6"/>
                  </a:lnTo>
                  <a:lnTo>
                    <a:pt x="175" y="0"/>
                  </a:lnTo>
                  <a:lnTo>
                    <a:pt x="206" y="0"/>
                  </a:lnTo>
                  <a:lnTo>
                    <a:pt x="237" y="6"/>
                  </a:lnTo>
                  <a:lnTo>
                    <a:pt x="267" y="16"/>
                  </a:lnTo>
                  <a:lnTo>
                    <a:pt x="294" y="32"/>
                  </a:lnTo>
                  <a:lnTo>
                    <a:pt x="319" y="51"/>
                  </a:lnTo>
                  <a:lnTo>
                    <a:pt x="340" y="74"/>
                  </a:lnTo>
                  <a:lnTo>
                    <a:pt x="358" y="100"/>
                  </a:lnTo>
                  <a:lnTo>
                    <a:pt x="371" y="129"/>
                  </a:lnTo>
                  <a:lnTo>
                    <a:pt x="378" y="159"/>
                  </a:lnTo>
                  <a:lnTo>
                    <a:pt x="381" y="191"/>
                  </a:lnTo>
                  <a:lnTo>
                    <a:pt x="378" y="223"/>
                  </a:lnTo>
                  <a:lnTo>
                    <a:pt x="371" y="253"/>
                  </a:lnTo>
                  <a:lnTo>
                    <a:pt x="358" y="282"/>
                  </a:lnTo>
                  <a:lnTo>
                    <a:pt x="340" y="308"/>
                  </a:lnTo>
                  <a:lnTo>
                    <a:pt x="319" y="332"/>
                  </a:lnTo>
                  <a:lnTo>
                    <a:pt x="294" y="351"/>
                  </a:lnTo>
                  <a:lnTo>
                    <a:pt x="267" y="365"/>
                  </a:lnTo>
                  <a:lnTo>
                    <a:pt x="237" y="376"/>
                  </a:lnTo>
                  <a:lnTo>
                    <a:pt x="206" y="381"/>
                  </a:lnTo>
                  <a:lnTo>
                    <a:pt x="175" y="381"/>
                  </a:lnTo>
                  <a:lnTo>
                    <a:pt x="143" y="376"/>
                  </a:lnTo>
                  <a:lnTo>
                    <a:pt x="114" y="365"/>
                  </a:lnTo>
                  <a:lnTo>
                    <a:pt x="85" y="351"/>
                  </a:lnTo>
                  <a:lnTo>
                    <a:pt x="61" y="332"/>
                  </a:lnTo>
                  <a:lnTo>
                    <a:pt x="39" y="308"/>
                  </a:lnTo>
                  <a:lnTo>
                    <a:pt x="22" y="282"/>
                  </a:lnTo>
                  <a:lnTo>
                    <a:pt x="10" y="253"/>
                  </a:lnTo>
                  <a:lnTo>
                    <a:pt x="1" y="223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74040" y="15840"/>
              <a:ext cx="59400" cy="62640"/>
            </a:xfrm>
            <a:custGeom>
              <a:avLst/>
              <a:gdLst/>
              <a:ahLst/>
              <a:rect l="l" t="t" r="r" b="b"/>
              <a:pathLst>
                <a:path w="383" h="380">
                  <a:moveTo>
                    <a:pt x="0" y="191"/>
                  </a:moveTo>
                  <a:lnTo>
                    <a:pt x="3" y="159"/>
                  </a:lnTo>
                  <a:lnTo>
                    <a:pt x="10" y="129"/>
                  </a:lnTo>
                  <a:lnTo>
                    <a:pt x="23" y="100"/>
                  </a:lnTo>
                  <a:lnTo>
                    <a:pt x="41" y="72"/>
                  </a:lnTo>
                  <a:lnTo>
                    <a:pt x="62" y="49"/>
                  </a:lnTo>
                  <a:lnTo>
                    <a:pt x="87" y="30"/>
                  </a:lnTo>
                  <a:lnTo>
                    <a:pt x="114" y="15"/>
                  </a:lnTo>
                  <a:lnTo>
                    <a:pt x="145" y="4"/>
                  </a:lnTo>
                  <a:lnTo>
                    <a:pt x="175" y="0"/>
                  </a:lnTo>
                  <a:lnTo>
                    <a:pt x="207" y="0"/>
                  </a:lnTo>
                  <a:lnTo>
                    <a:pt x="238" y="4"/>
                  </a:lnTo>
                  <a:lnTo>
                    <a:pt x="269" y="15"/>
                  </a:lnTo>
                  <a:lnTo>
                    <a:pt x="296" y="30"/>
                  </a:lnTo>
                  <a:lnTo>
                    <a:pt x="321" y="49"/>
                  </a:lnTo>
                  <a:lnTo>
                    <a:pt x="342" y="72"/>
                  </a:lnTo>
                  <a:lnTo>
                    <a:pt x="359" y="100"/>
                  </a:lnTo>
                  <a:lnTo>
                    <a:pt x="372" y="129"/>
                  </a:lnTo>
                  <a:lnTo>
                    <a:pt x="380" y="159"/>
                  </a:lnTo>
                  <a:lnTo>
                    <a:pt x="383" y="191"/>
                  </a:lnTo>
                  <a:lnTo>
                    <a:pt x="380" y="221"/>
                  </a:lnTo>
                  <a:lnTo>
                    <a:pt x="372" y="251"/>
                  </a:lnTo>
                  <a:lnTo>
                    <a:pt x="359" y="280"/>
                  </a:lnTo>
                  <a:lnTo>
                    <a:pt x="342" y="307"/>
                  </a:lnTo>
                  <a:lnTo>
                    <a:pt x="321" y="330"/>
                  </a:lnTo>
                  <a:lnTo>
                    <a:pt x="296" y="349"/>
                  </a:lnTo>
                  <a:lnTo>
                    <a:pt x="269" y="365"/>
                  </a:lnTo>
                  <a:lnTo>
                    <a:pt x="238" y="375"/>
                  </a:lnTo>
                  <a:lnTo>
                    <a:pt x="207" y="380"/>
                  </a:lnTo>
                  <a:lnTo>
                    <a:pt x="175" y="380"/>
                  </a:lnTo>
                  <a:lnTo>
                    <a:pt x="145" y="375"/>
                  </a:lnTo>
                  <a:lnTo>
                    <a:pt x="114" y="365"/>
                  </a:lnTo>
                  <a:lnTo>
                    <a:pt x="87" y="349"/>
                  </a:lnTo>
                  <a:lnTo>
                    <a:pt x="62" y="330"/>
                  </a:lnTo>
                  <a:lnTo>
                    <a:pt x="41" y="307"/>
                  </a:lnTo>
                  <a:lnTo>
                    <a:pt x="23" y="280"/>
                  </a:lnTo>
                  <a:lnTo>
                    <a:pt x="10" y="251"/>
                  </a:lnTo>
                  <a:lnTo>
                    <a:pt x="3" y="22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74040" y="109440"/>
              <a:ext cx="59400" cy="62640"/>
            </a:xfrm>
            <a:custGeom>
              <a:avLst/>
              <a:gdLst/>
              <a:ahLst/>
              <a:rect l="l" t="t" r="r" b="b"/>
              <a:pathLst>
                <a:path w="383" h="380">
                  <a:moveTo>
                    <a:pt x="0" y="189"/>
                  </a:moveTo>
                  <a:lnTo>
                    <a:pt x="3" y="159"/>
                  </a:lnTo>
                  <a:lnTo>
                    <a:pt x="10" y="129"/>
                  </a:lnTo>
                  <a:lnTo>
                    <a:pt x="23" y="100"/>
                  </a:lnTo>
                  <a:lnTo>
                    <a:pt x="41" y="72"/>
                  </a:lnTo>
                  <a:lnTo>
                    <a:pt x="62" y="49"/>
                  </a:lnTo>
                  <a:lnTo>
                    <a:pt x="87" y="31"/>
                  </a:lnTo>
                  <a:lnTo>
                    <a:pt x="114" y="15"/>
                  </a:lnTo>
                  <a:lnTo>
                    <a:pt x="145" y="5"/>
                  </a:lnTo>
                  <a:lnTo>
                    <a:pt x="175" y="0"/>
                  </a:lnTo>
                  <a:lnTo>
                    <a:pt x="207" y="0"/>
                  </a:lnTo>
                  <a:lnTo>
                    <a:pt x="238" y="5"/>
                  </a:lnTo>
                  <a:lnTo>
                    <a:pt x="269" y="15"/>
                  </a:lnTo>
                  <a:lnTo>
                    <a:pt x="296" y="31"/>
                  </a:lnTo>
                  <a:lnTo>
                    <a:pt x="321" y="49"/>
                  </a:lnTo>
                  <a:lnTo>
                    <a:pt x="342" y="72"/>
                  </a:lnTo>
                  <a:lnTo>
                    <a:pt x="359" y="100"/>
                  </a:lnTo>
                  <a:lnTo>
                    <a:pt x="372" y="129"/>
                  </a:lnTo>
                  <a:lnTo>
                    <a:pt x="380" y="159"/>
                  </a:lnTo>
                  <a:lnTo>
                    <a:pt x="383" y="189"/>
                  </a:lnTo>
                  <a:lnTo>
                    <a:pt x="380" y="221"/>
                  </a:lnTo>
                  <a:lnTo>
                    <a:pt x="372" y="251"/>
                  </a:lnTo>
                  <a:lnTo>
                    <a:pt x="359" y="280"/>
                  </a:lnTo>
                  <a:lnTo>
                    <a:pt x="342" y="308"/>
                  </a:lnTo>
                  <a:lnTo>
                    <a:pt x="321" y="331"/>
                  </a:lnTo>
                  <a:lnTo>
                    <a:pt x="296" y="349"/>
                  </a:lnTo>
                  <a:lnTo>
                    <a:pt x="269" y="365"/>
                  </a:lnTo>
                  <a:lnTo>
                    <a:pt x="238" y="375"/>
                  </a:lnTo>
                  <a:lnTo>
                    <a:pt x="207" y="380"/>
                  </a:lnTo>
                  <a:lnTo>
                    <a:pt x="175" y="380"/>
                  </a:lnTo>
                  <a:lnTo>
                    <a:pt x="145" y="375"/>
                  </a:lnTo>
                  <a:lnTo>
                    <a:pt x="114" y="365"/>
                  </a:lnTo>
                  <a:lnTo>
                    <a:pt x="87" y="349"/>
                  </a:lnTo>
                  <a:lnTo>
                    <a:pt x="62" y="331"/>
                  </a:lnTo>
                  <a:lnTo>
                    <a:pt x="41" y="308"/>
                  </a:lnTo>
                  <a:lnTo>
                    <a:pt x="23" y="280"/>
                  </a:lnTo>
                  <a:lnTo>
                    <a:pt x="10" y="251"/>
                  </a:lnTo>
                  <a:lnTo>
                    <a:pt x="3" y="221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 rot="16200000">
            <a:off x="-276480" y="6294960"/>
            <a:ext cx="8283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936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2784ff"/>
                </a:solidFill>
                <a:latin typeface="Arial Narrow"/>
              </a:rPr>
              <a:t>www.ktl.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4680" y="3471840"/>
            <a:ext cx="211320" cy="2342880"/>
            <a:chOff x="4680" y="3471840"/>
            <a:chExt cx="211320" cy="2342880"/>
          </a:xfrm>
        </p:grpSpPr>
        <p:sp>
          <p:nvSpPr>
            <p:cNvPr id="16" name=""/>
            <p:cNvSpPr/>
            <p:nvPr/>
          </p:nvSpPr>
          <p:spPr>
            <a:xfrm>
              <a:off x="18000" y="5260320"/>
              <a:ext cx="185760" cy="19692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7440" y="4956840"/>
              <a:ext cx="145800" cy="15516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9680" y="4696200"/>
              <a:ext cx="122760" cy="13032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8320" y="4448880"/>
              <a:ext cx="105840" cy="113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760" y="4227480"/>
              <a:ext cx="84600" cy="9000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480" y="4037400"/>
              <a:ext cx="64080" cy="6840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760" y="3865320"/>
              <a:ext cx="46800" cy="50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0720" y="3716640"/>
              <a:ext cx="38520" cy="41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0" y="3584520"/>
              <a:ext cx="25920" cy="2808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00080" y="3471840"/>
              <a:ext cx="19800" cy="212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680" y="5590080"/>
              <a:ext cx="211320" cy="2246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yjak.pyrkilo.fi/" TargetMode="External"/><Relationship Id="rId2" Type="http://schemas.openxmlformats.org/officeDocument/2006/relationships/hyperlink" Target="mailto:Jouni.Tuomisto@ktl.fi" TargetMode="External"/><Relationship Id="rId3" Type="http://schemas.openxmlformats.org/officeDocument/2006/relationships/hyperlink" Target="mailto:Mikko.Pohjola@ktl.fi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tl.fi/yto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Jätteenpolton ja sen vaihtoehtojen terveysvaikutu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kko Pohjol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tki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ansanterveyslaitos, Kuopi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Kaatopaikkapalo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omessa muutamia satoja kaatopaikkapaloja vuosittain, joissa palaa kymmeniä tuhansia tonneja jätett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ljoonaa tonnia jätettä kohti synty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aatopaikoilla noin 1,0 g dioksiinej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polttolaitoksessa enintään 0,5 g dioksiinej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allittu jätteenpoltto siis vähentää dioksiinipäästöj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lohopean vaikutu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svakudokseen ja keskushermostoon kertyvä raskasmetalli joka aiheuttaa hermostovaurioita sekä kehityshäiriöitä lapsill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omessa keskimääräinen saanti on kaukana vaarallisesta altistukse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astunutta kalaa runsaasti syömällä voi elohopeaa kuitenkin saada runsaastik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ätevoimalan elohopeapäästöt 15 – 90 kg vuodessa, eli noin 2,5 – 15 % kaikista Suomen päästöist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lustava vertailu: joitakin arvioita vaikutuksista Suomess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1523880"/>
          <a:ext cx="8762760" cy="5172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  <a:gridCol w="1752480"/>
              </a:tblGrid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vio Suo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ksimi Suo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v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änsi-Uusim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ks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änsi-Uusim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ätteenpolton pienhiukka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kuolemaa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nykyisin:1/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nykyisin:1/2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ätteenpolton dioksii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yöpää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ikenteen pienhiukka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kuolemaa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uun pienpoltto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kuolemaa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/vuo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vuo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nettomuud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ukkaantun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uoll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ik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apausta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uomi: 400/vuos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äätelmiä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ysymys on monimutkainen eikä ole pelkkä kyllä vai ei jätteenpoltto (energia- ja jätehuolto yhtenä vyyhtenä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polton päästöt leviävät laajalle ja aiheuttavat vain vähän paikallista altistumis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urin osa päästöjen terveyshaitoista liittyy pienhiukkasi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ikenneonnettomuusriski merkittävän suuri suhteessa päästöjen terveyshaittoih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 poltto voi vähentää sekä kasvihuonekaasupäästöjä että hiukkaspäästöjä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 polttaminen kaatopaikkaläjityksen sijaan voi vähentää myös dioksiinipäästöjä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Imago: hyvä vai paha jätteenpoltto? </a:t>
            </a:r>
            <a:br>
              <a:rPr sz="4000"/>
            </a:b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Spittelau Wienin keskustass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7220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45000"/>
                <a:tab algn="l" pos="9090000"/>
              </a:tabLst>
            </a:pPr>
            <a:r>
              <a:rPr b="0" lang="fi-FI" sz="1800" spc="-1" strike="noStrike">
                <a:solidFill>
                  <a:srgbClr val="333399"/>
                </a:solidFill>
                <a:latin typeface="Arial Narrow"/>
              </a:rPr>
              <a:t>Kuva: Wikipedia 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Internet-sivusto Tyjak </a:t>
            </a:r>
            <a:br>
              <a:rPr sz="4000"/>
            </a:b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(Terveys, Ympäristö JA Kaikki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soit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http://tyjak.pyrkilo.f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avoitteena kerätä ympäristöterveyteen liittyvää tietoa ja ymmärrystä tutkimuksen ja kansalaisten käyttöö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irkniemen jätteenpolttohankkeen arvioint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ämeenkyrön jätteenpolttolaitoksen arvioint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voin sivusto, jossa jokainen kirjoittaja vastaa omasta tuotoksesta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ullekin tapaukselle myös oma keskustelusivun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i edusta KTL:n virallista kanta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lläpito poistaa epäasiallisuud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lläpito avaa uusia aiheita mahdollisuuksien ja tarpeiden muka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ätietoja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Jouni.Tuomisto@ktl.f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Mikko.Pohjola@ktl.f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Kansanterveyslaitos, Ympäristöterveyden osast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tto: "Ihmisen on voitava hengittää, juoda ja syödä, käyttää kuluttajille myytäviä tuotteita ja liikkua ympäristössään luottaen siihen, ettei hänen terveytensä ole uhattuna."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. 140 työntekijää, pääasiassa tutkimustyöss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ottaa kansanterveyden kannalta tärkeitä tuloks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imii asiantuntijana ja lausunnonantajana ympäristöterveyskysymyksissä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ämä esitys ei ole lausunto!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www.ktl.fi/yt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onta olennaista kysymystä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stä energia Kirkniemen paperitehtaall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tä tehdään yhdyskuntajätteill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nne jätteenpolttolaitoksia sijoitetaan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nko terveys uhattuna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polton päästö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aatopaikkojen päästö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sääntyvän liikenteen päästö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ikenneturvallisuu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tä vaikutuksia ilmastonmuutokseen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ten seudun viihtyvyys muuttuu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Jätteenpolttoon liittyviä asioit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8440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rilaisia päästöjä – mitkä ovat tärkeitä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ienhiukkaset (vaarallisinta savussa; sydänsairaude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oksiinit (supermyrkkyjä; syöpä, kehityshäiriö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skasmetallit (keskushermostovaikutukse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ilidioksidi, metaani (ilmastonmuuto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hk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ikkidioksidi (pääasiassa ympäristövaikutu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ypen oksidit (pääasiassa ympäristövaikutus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äkä (vaarallista lähinnä suljetuissa tiloissa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Jätehuollon ratkaisujen vertailu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Jätteen vähentämin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Ideaalinen tavoite (”ei onnistu kuitenkaan” / ”tämä ennen kuin mietitään muita vaihtoehtoja”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On muutettava kulutusta ja yhteiskunnan rakentei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i auta jätteelle joka on jo syntyny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aatopaik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U-lainsäädäntö vähentää tulevaisuudes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Kaatopaikkapaloissa syntyy pienhiukkasia ja dioksiinej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ajujen ja suotovesien kulkeutuminen lähiympäristöö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erkittävä kasvihuonekaasujen läh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Rotat, lokit ongelman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Jätteenpolt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Pienhiukkas- ja dioksiinipäästöjä ilma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Tuhkan läjitys ja suotovedet mahdollinen ongelma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uono ma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äästöille altistumine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äästöt savukaasujen mukana ilma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eviävät piipusta laajalle alueelle (satoja kilometrejä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ienhiukkaset: kulkeutuvat  ulko- ja sisäilmaan; altistuminen hengitysteit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ioksiinit: laskeuma vesistöön ja maahan, kertyminen ravintoketjussa kalaan, lihaan ja maito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lohopea: kulkeutuminen huonosti tunnettu; altistuminen pääasiassa kala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uhkassa oleville aineille altistuminen vähäistä?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ienhiukkasten vaikutu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iheuttavat sydän- ja verisuonisairauksia ja lisäävät kuolleisuutta niih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sältävät myös syöpävaarallisia ainesos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äyttävät lisäävän keuhkosyöpää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ahentavat herkkien ihmisten, kuten astmaatikkojen, hengitystieoirei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in 1000 ennenaikaista kuolemaa Suomessa, joista 500 suomalaisista lähteistä johtu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ienhiukkaset leviävät laajalle alueelle, joten myös vaikutukset jakautuvat laajaan väestöö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oksiinien vaikutu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askennallisesti Suomessa 11 syöpätapausta vuodessa (todennäköisesti yliarvio, U.S. EPA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ehityshäiriöitä, mm. hampaiden kiillevauriota lapsill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O:n turvallisen annoksen yläraja 1-4 pg/kg/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uomessa altistus vajaa 1 pg/kg/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Väestön taustapitoisuus 20 pg/g rasvas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aitos aiheuttaa 0,01 – 0,10 pg/g nousun pitoisuudes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1/2000 – 1/200 taustapitoisuudes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tep</cp:lastModifiedBy>
  <dcterms:modified xsi:type="dcterms:W3CDTF">2007-06-07T12:23:3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